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C7A-B5A2-4CBF-BF6A-F08AC992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E89-BCDD-4E49-99E9-F148DAC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D89-47EA-41A0-9192-400FA653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B09-2C38-4834-A10B-15797B54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189-94EE-40A9-AE4F-B2FE1885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D65-A1F2-4E4F-8716-D72CA85A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0A7-F518-4A03-9F78-8E231D12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17A-DF4A-4363-BF7B-C2A83A0D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101-0D71-4EEC-A402-9120EA1E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013-7856-4F93-9565-829FC2B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EED-DA43-4938-B6AB-E20723C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940-2AD9-4C5D-AD05-5E50731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3EA6-2A67-48AF-BB1A-B5ED27E0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 Ott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3047760" cy="254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28954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Nevada is Carson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4193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ada became a state October  31, 1864.It is the 3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is 110,567 square miles. It is th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3184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3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opulation. It has 2,106,074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0959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ada state bird is the mountain blue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41911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ada state flower is the sagebr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762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51:55Z</dcterms:created>
  <dc:creator>Mother of Divine Grace</dc:creator>
  <dc:description/>
  <dc:language>en-US</dc:language>
  <cp:lastModifiedBy>Mother of Divine Grace</cp:lastModifiedBy>
  <dcterms:modified xsi:type="dcterms:W3CDTF">2012-05-10T14:32:02Z</dcterms:modified>
  <cp:revision>2</cp:revision>
  <dc:subject/>
  <dc:title>Nevada</dc:title>
</cp:coreProperties>
</file>